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8DFD-ED6B-45DF-B8EC-6571B6DB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9AD-F927-4D36-915A-B718BF713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509-06B9-4F33-9AF7-8CAD43C6D4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03B-0578-46DC-B58A-BDDD680BA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F4AA-3B93-4F4B-AA81-984EDC848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7D10-1323-4EC8-B0F5-C54E80F99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A2A-3E4D-4DD8-8D53-6CD18D6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F33-E6FE-4C22-863C-074130A8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61C-B9A1-4D4A-8766-656C3A4B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92A-8DF8-4E1C-BB32-BAF92F8F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0432-11E3-467B-845D-71E72D11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6C97-93A8-4166-A90C-773E930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B14-4EC9-4690-A4F5-2BA6911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F481-C112-4FCA-B37E-1A90A4E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20F2-8DF4-4BAC-A21F-82956A8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9372-79A8-403D-8C51-52FA8A11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E83-9F9A-4005-896C-1B4AEE5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9FD-A639-44C0-BCBE-188EBCAC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25A2-A2DD-4372-81F3-0D266F6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E86-1D4F-4C3B-9778-83D47C0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B066-566D-417A-A697-36E99E3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09F-4379-4BC2-B0EB-DAC84841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012-44D2-495B-83CE-68CD5FB3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6E8-B01E-47BB-A6A6-54279649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A4B-A004-4C67-8005-A5E270BD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E4E-6B60-4BE2-BD37-F39B07D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248-62C5-4992-9470-84C3631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8E5-0A13-4B5F-8862-F1BB420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6D5-0A56-443B-A6A6-65B2251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942-F188-4842-81F6-BA2176E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95CE-52EE-4010-AFED-019BA3DF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0BC7-006A-4FEA-B8E6-2B71E8761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7617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Name one Savings Instru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80" y="2282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How much money in Savings Accounts is guaranteed by the US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9514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4711680" y="4049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hhhhh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711680" y="3817800"/>
            <a:ext cx="166356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ll in the Blan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In a CD, the longer the ________, the higher the ______rate that is pai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449880" cy="33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5:05:14Z</dcterms:modified>
  <cp:revision>145</cp:revision>
  <dc:subject/>
  <dc:title>D/O: TO EXPLAIN AND IDENTIFY PROBLEMS OF ECONOMICS</dc:title>
</cp:coreProperties>
</file>